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9805-E121-41D4-ABDE-90E4FDCE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776C-0DF6-4BA8-890A-946F78B8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1C49-5179-47B1-8697-B2AB27397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B6C7-6632-4833-8D8E-B3A44431B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F5C9-CBA2-482C-B51C-156EAB3B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70F1-A52F-4D92-B1DF-4D1C8A91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690D-CE17-45CF-9B9B-DC916BE1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BAD3-D8A7-4108-9C0B-CB0112B0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321E-CDED-4BA9-AA72-AD15120F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74F0-7838-4154-9DA2-380CCA8C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4690-739D-41F8-AAAF-9A80B54A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8F9F-F73A-407C-BF8B-10A9530B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8473-3B57-426B-93C8-E2B21E6A6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7788240" cy="62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Renewable Re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generates itself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- animals, trees, plants, water,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Nonrenewable resour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annot regenerate itself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- minerals, oil, gas, c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41936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80640" y="146160"/>
            <a:ext cx="697608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lternative Energy Sourc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k 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Hydroelec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Geotherm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Bio-fu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478152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057400" y="4724280"/>
            <a:ext cx="1866960" cy="1866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038480" y="4724280"/>
            <a:ext cx="1602000" cy="1843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315200" y="4495680"/>
            <a:ext cx="1660680" cy="2009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715000" y="5029200"/>
            <a:ext cx="15238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228600"/>
            <a:ext cx="4114800" cy="24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ssive Solar Hea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’s energy is collected, stored, and distributed natur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Walk through a green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24588" r="0" b="0"/>
          <a:stretch/>
        </p:blipFill>
        <p:spPr>
          <a:xfrm>
            <a:off x="380880" y="3276720"/>
            <a:ext cx="3353040" cy="30844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4952880" y="228600"/>
            <a:ext cx="38102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tive Solar H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s are used to collect, store, and circulate heat produced from solar energ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olar Pa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3505320"/>
            <a:ext cx="4276800" cy="269244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341280"/>
            <a:ext cx="84582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voltaic Cells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light striking the cells cause electrons to move from one slice to the next causing electric curr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5763" t="13715" r="3629" b="19723"/>
          <a:stretch/>
        </p:blipFill>
        <p:spPr>
          <a:xfrm>
            <a:off x="996840" y="2441520"/>
            <a:ext cx="6704280" cy="367524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882160" y="298440"/>
            <a:ext cx="328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nd E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3120" y="1066680"/>
            <a:ext cx="64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ind turbine generators- windmills generate electr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638680" y="2133720"/>
            <a:ext cx="2743200" cy="41148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4572000" cy="34434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0" y="3657600"/>
            <a:ext cx="4114800" cy="273384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2041560" y="1103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62080" y="407880"/>
            <a:ext cx="528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ydroelectric E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rcRect l="16405" t="35419" r="35158" b="20835"/>
          <a:stretch/>
        </p:blipFill>
        <p:spPr>
          <a:xfrm>
            <a:off x="380880" y="1981080"/>
            <a:ext cx="4953240" cy="33559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818720" y="1219320"/>
            <a:ext cx="592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nergy produced from the energy of moving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42760" y="533520"/>
            <a:ext cx="48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othermal E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2362320" cy="15750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086600" y="1066680"/>
            <a:ext cx="1598760" cy="26863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217800" y="1371600"/>
            <a:ext cx="659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nergy that is produced within the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Generated by decay of radioactive elements in the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480" y="2209680"/>
            <a:ext cx="2743200" cy="24130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375840" y="5410080"/>
            <a:ext cx="386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Hot Springs, Gey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m 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724280" y="3925800"/>
            <a:ext cx="3657600" cy="27799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1905120" cy="28576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46240" y="304920"/>
            <a:ext cx="235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io-fu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1419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organic matter used as fuel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105520" y="228600"/>
            <a:ext cx="3736800" cy="614844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441360" y="1752480"/>
            <a:ext cx="2225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biomass is bu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heat is used to boil water in the bo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energy in the steam is used to turn turbines and gen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22:12:02Z</dcterms:created>
  <dc:creator>bmcardle</dc:creator>
  <dc:description/>
  <dc:language>en-US</dc:language>
  <cp:lastModifiedBy>bmcardle</cp:lastModifiedBy>
  <dcterms:modified xsi:type="dcterms:W3CDTF">2009-01-10T20:20:58Z</dcterms:modified>
  <cp:revision>4</cp:revision>
  <dc:subject/>
  <dc:title>Slide 1</dc:title>
</cp:coreProperties>
</file>